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FC6-20F5-44F4-90D6-8D1F4DDD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9FA-18EA-4F9D-A8DE-59AA6155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C63-71C9-4C3E-A06E-AF720F2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004-932E-47B1-A57E-BA16A318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BCE-E7C9-400D-9B2B-761F838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9C4-C915-4D6F-A1EB-587DABB1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844-F11C-4A89-B9F7-F822F5A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71C-CCB0-4602-B055-A120154D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A45-2B52-4915-93D7-7D2A0C5F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111-8053-478B-8B45-5884258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7F9-0B24-43B9-AABC-0A0F2AE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370-D36D-4DB8-AC32-099E240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505-049F-4064-8910-B5649A5D1A4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垂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レーダにより観測され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桜島噴火時のレーダ画像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5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ー　高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000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以上の噴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事例　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465520" y="64184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　真木（鹿児島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1680" y="547560"/>
          <a:ext cx="7566120" cy="6310440"/>
        </p:xfrm>
        <a:graphic>
          <a:graphicData uri="http://schemas.openxmlformats.org/drawingml/2006/table">
            <a:tbl>
              <a:tblPr/>
              <a:tblGrid>
                <a:gridCol w="333360"/>
                <a:gridCol w="473040"/>
                <a:gridCol w="463680"/>
                <a:gridCol w="1155600"/>
                <a:gridCol w="998640"/>
                <a:gridCol w="620640"/>
                <a:gridCol w="871560"/>
                <a:gridCol w="452520"/>
                <a:gridCol w="441000"/>
                <a:gridCol w="1420920"/>
                <a:gridCol w="335160"/>
              </a:tblGrid>
              <a:tr h="231840"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火番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爆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噴火時刻（日本時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積算時刻（分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噴煙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噴煙高度</a:t>
                      </a: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向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火口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548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: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(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(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 (4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: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:58 -18:23 (2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0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53  (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6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: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(2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9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: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(4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9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 (5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440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: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(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: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-24:13 (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(5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8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: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31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(4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(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9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(32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,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: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5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: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:44-21:11 (2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12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2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59 (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 conti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1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: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:2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:59 (3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: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(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5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1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6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 (3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7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: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 (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(3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 (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: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9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2: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(3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4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w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10: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(5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28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(4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,beh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0/28 12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(3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99440"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/11/24 16: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(2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360" rIns="9036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1199"/>
          <p:cNvSpPr/>
          <p:nvPr/>
        </p:nvSpPr>
        <p:spPr>
          <a:xfrm>
            <a:off x="1974240" y="42840"/>
            <a:ext cx="42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噴煙高度が火口から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3000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以上の噴火事例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00"/>
          <p:cNvSpPr/>
          <p:nvPr/>
        </p:nvSpPr>
        <p:spPr>
          <a:xfrm>
            <a:off x="7087320" y="104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気象庁の資料に加筆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cture 5"/>
          <p:cNvSpPr/>
          <p:nvPr/>
        </p:nvSpPr>
        <p:spPr>
          <a:xfrm>
            <a:off x="155520" y="3835440"/>
            <a:ext cx="29145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icture 10"/>
          <p:cNvSpPr/>
          <p:nvPr/>
        </p:nvSpPr>
        <p:spPr>
          <a:xfrm>
            <a:off x="139680" y="3822840"/>
            <a:ext cx="299412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C:\Users\maki\Dropbox\マイドキュメント\Maki研究ﾉｰﾄ\SAKURA14\2013_31cases\2041206_revised\01_addZH2.e5.98_d2013-05-08_162502jst-2013-05-08_172101jst.png"/>
          <p:cNvPicPr/>
          <p:nvPr/>
        </p:nvPicPr>
        <p:blipFill>
          <a:blip r:embed="rId1"/>
          <a:srcRect l="2717" t="21352" r="2866" b="0"/>
          <a:stretch/>
        </p:blipFill>
        <p:spPr>
          <a:xfrm>
            <a:off x="0" y="351000"/>
            <a:ext cx="3021120" cy="302076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6"/>
          <p:cNvSpPr/>
          <p:nvPr/>
        </p:nvSpPr>
        <p:spPr>
          <a:xfrm>
            <a:off x="312840" y="0"/>
            <a:ext cx="202068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1 (2013/05/08 16:27 JST) 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25-172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399600" y="76824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1" descr="C:\Users\maki\Dropbox\マイドキュメント\Maki研究ﾉｰﾄ\SAKURA14\2013_31cases\2041206_revised\02_addZH2.e6.00_d2013-06-13_085701jst-2013-06-13_105902jst.png"/>
          <p:cNvPicPr/>
          <p:nvPr/>
        </p:nvPicPr>
        <p:blipFill>
          <a:blip r:embed="rId2"/>
          <a:srcRect l="2717" t="21549" r="2638" b="0"/>
          <a:stretch/>
        </p:blipFill>
        <p:spPr>
          <a:xfrm>
            <a:off x="3054240" y="365040"/>
            <a:ext cx="3029040" cy="3013200"/>
          </a:xfrm>
          <a:prstGeom prst="rect">
            <a:avLst/>
          </a:prstGeom>
          <a:ln w="0">
            <a:noFill/>
          </a:ln>
        </p:spPr>
      </p:pic>
      <p:sp>
        <p:nvSpPr>
          <p:cNvPr id="53" name="テキスト ボックス 8"/>
          <p:cNvSpPr/>
          <p:nvPr/>
        </p:nvSpPr>
        <p:spPr>
          <a:xfrm>
            <a:off x="3477600" y="78264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6"/>
          <p:cNvSpPr/>
          <p:nvPr/>
        </p:nvSpPr>
        <p:spPr>
          <a:xfrm>
            <a:off x="3357720" y="0"/>
            <a:ext cx="19364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2 (2013/06/13 08:58 JST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857-105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2" descr="C:\Users\maki\Dropbox\マイドキュメント\Maki研究ﾉｰﾄ\SAKURA14\2013_31cases\2041206_revised\03_addZH2.e5.98_d2013-06-13_132502jst-2013-06-13_141301jst.png"/>
          <p:cNvPicPr/>
          <p:nvPr/>
        </p:nvPicPr>
        <p:blipFill>
          <a:blip r:embed="rId3"/>
          <a:srcRect l="2717" t="21549" r="2638" b="0"/>
          <a:stretch/>
        </p:blipFill>
        <p:spPr>
          <a:xfrm>
            <a:off x="6107040" y="372960"/>
            <a:ext cx="3029040" cy="301320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6"/>
          <p:cNvSpPr/>
          <p:nvPr/>
        </p:nvSpPr>
        <p:spPr>
          <a:xfrm>
            <a:off x="6431040" y="14400"/>
            <a:ext cx="194292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3 (2013/06/13 13:26 JST) 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5-141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7"/>
          <p:cNvSpPr/>
          <p:nvPr/>
        </p:nvSpPr>
        <p:spPr>
          <a:xfrm>
            <a:off x="6518520" y="800280"/>
            <a:ext cx="977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maki\Dropbox\マイドキュメント\Maki研究ﾉｰﾄ\SAKURA14\2013_31cases\2041206_revised\04_addZH2.e5.98_d2013-07-10_175902jst-2013-07-10_182301jst.png"/>
          <p:cNvPicPr/>
          <p:nvPr/>
        </p:nvPicPr>
        <p:blipFill>
          <a:blip r:embed="rId4"/>
          <a:srcRect l="2717" t="21549" r="3102" b="0"/>
          <a:stretch/>
        </p:blipFill>
        <p:spPr>
          <a:xfrm>
            <a:off x="0" y="3838680"/>
            <a:ext cx="3014640" cy="301284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7"/>
          <p:cNvSpPr/>
          <p:nvPr/>
        </p:nvSpPr>
        <p:spPr>
          <a:xfrm>
            <a:off x="385200" y="42559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"/>
          <p:cNvSpPr/>
          <p:nvPr/>
        </p:nvSpPr>
        <p:spPr>
          <a:xfrm>
            <a:off x="276120" y="3549600"/>
            <a:ext cx="1962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4 (2013/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0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7/10 17:58 JST)  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34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8-182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maki\Dropbox\マイドキュメント\Maki研究ﾉｰﾄ\SAKURA14\2013_31cases\2041206_revised\05_addZH2.e5.98_d2013-07-11_130502jst-2013-07-11_135301jst.png"/>
          <p:cNvPicPr/>
          <p:nvPr/>
        </p:nvPicPr>
        <p:blipFill>
          <a:blip r:embed="rId5"/>
          <a:srcRect l="2717" t="21549" r="3102" b="0"/>
          <a:stretch/>
        </p:blipFill>
        <p:spPr>
          <a:xfrm>
            <a:off x="3056040" y="3838680"/>
            <a:ext cx="3014640" cy="3012840"/>
          </a:xfrm>
          <a:prstGeom prst="rect">
            <a:avLst/>
          </a:prstGeom>
          <a:ln w="0">
            <a:noFill/>
          </a:ln>
        </p:spPr>
      </p:pic>
      <p:sp>
        <p:nvSpPr>
          <p:cNvPr id="62" name="テキスト ボックス 6"/>
          <p:cNvSpPr/>
          <p:nvPr/>
        </p:nvSpPr>
        <p:spPr>
          <a:xfrm>
            <a:off x="3284640" y="3537000"/>
            <a:ext cx="26352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5 (2013/07/11 13:06 JST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5-135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8"/>
          <p:cNvSpPr/>
          <p:nvPr/>
        </p:nvSpPr>
        <p:spPr>
          <a:xfrm>
            <a:off x="3490200" y="43149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maki\Dropbox\マイドキュメント\Maki研究ﾉｰﾄ\SAKURA14\2013_31cases\2041206_revised\06_addZH2.e5.98_d2013-07-16_155502jst-2013-07-16_162502jst.png"/>
          <p:cNvPicPr/>
          <p:nvPr/>
        </p:nvPicPr>
        <p:blipFill>
          <a:blip r:embed="rId6"/>
          <a:srcRect l="2945" t="21549" r="2866" b="0"/>
          <a:stretch/>
        </p:blipFill>
        <p:spPr>
          <a:xfrm>
            <a:off x="610092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7"/>
          <p:cNvSpPr/>
          <p:nvPr/>
        </p:nvSpPr>
        <p:spPr>
          <a:xfrm>
            <a:off x="6509880" y="43401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6"/>
          <p:cNvSpPr/>
          <p:nvPr/>
        </p:nvSpPr>
        <p:spPr>
          <a:xfrm>
            <a:off x="6338160" y="352584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6 (2013/07/16 15:56 JST) 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55-1625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maki\Dropbox\マイドキュメント\Maki研究ﾉｰﾄ\SAKURA14\2013_31cases\2041206_revised\07_addZH2.e5.98_d2013-07-19_073502jst-2013-07-19_081902jst.png"/>
          <p:cNvPicPr/>
          <p:nvPr/>
        </p:nvPicPr>
        <p:blipFill>
          <a:blip r:embed="rId1"/>
          <a:srcRect l="2945" t="21549" r="2866" b="0"/>
          <a:stretch/>
        </p:blipFill>
        <p:spPr>
          <a:xfrm>
            <a:off x="0" y="33336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68" name="テキスト ボックス 1"/>
          <p:cNvSpPr/>
          <p:nvPr/>
        </p:nvSpPr>
        <p:spPr>
          <a:xfrm>
            <a:off x="1667880" y="722160"/>
            <a:ext cx="107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11, 073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噴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1"/>
          <p:cNvSpPr/>
          <p:nvPr/>
        </p:nvSpPr>
        <p:spPr>
          <a:xfrm>
            <a:off x="385200" y="80820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6"/>
          <p:cNvSpPr/>
          <p:nvPr/>
        </p:nvSpPr>
        <p:spPr>
          <a:xfrm>
            <a:off x="562680" y="1764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7 (2013/07/19 07:37 JST) 34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709-081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maki\Dropbox\マイドキュメント\Maki研究ﾉｰﾄ\SAKURA14\2013_31cases\2041206_revised\08_addZH2.e6.00_d2013-07-19_120301jst-2013-07-19_130101jst.png"/>
          <p:cNvPicPr/>
          <p:nvPr/>
        </p:nvPicPr>
        <p:blipFill>
          <a:blip r:embed="rId2"/>
          <a:srcRect l="2717" t="21549" r="2866" b="0"/>
          <a:stretch/>
        </p:blipFill>
        <p:spPr>
          <a:xfrm>
            <a:off x="3068640" y="338040"/>
            <a:ext cx="3021120" cy="3013200"/>
          </a:xfrm>
          <a:prstGeom prst="rect">
            <a:avLst/>
          </a:prstGeom>
          <a:ln w="0">
            <a:noFill/>
          </a:ln>
        </p:spPr>
      </p:pic>
      <p:sp>
        <p:nvSpPr>
          <p:cNvPr id="72" name="テキスト ボックス 8"/>
          <p:cNvSpPr/>
          <p:nvPr/>
        </p:nvSpPr>
        <p:spPr>
          <a:xfrm>
            <a:off x="376668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6"/>
          <p:cNvSpPr/>
          <p:nvPr/>
        </p:nvSpPr>
        <p:spPr>
          <a:xfrm>
            <a:off x="3594960" y="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8 (2013/07/19 12:04 JST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3-130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Users\maki\Dropbox\マイドキュメント\Maki研究ﾉｰﾄ\SAKURA14\2013_31cases\2041206_revised\09_addZH2.e6.00_d2013-07-22_163502jst-2013-07-22_173101jst.png"/>
          <p:cNvPicPr/>
          <p:nvPr/>
        </p:nvPicPr>
        <p:blipFill>
          <a:blip r:embed="rId3"/>
          <a:srcRect l="3181" t="21549" r="2866" b="0"/>
          <a:stretch/>
        </p:blipFill>
        <p:spPr>
          <a:xfrm>
            <a:off x="6121440" y="325440"/>
            <a:ext cx="300816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テキスト ボックス 7"/>
          <p:cNvSpPr/>
          <p:nvPr/>
        </p:nvSpPr>
        <p:spPr>
          <a:xfrm>
            <a:off x="6894720" y="8269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6"/>
          <p:cNvSpPr/>
          <p:nvPr/>
        </p:nvSpPr>
        <p:spPr>
          <a:xfrm>
            <a:off x="6722280" y="1260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09 (2013/07/22 16:35 JST) 32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5-173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maki\Dropbox\マイドキュメント\Maki研究ﾉｰﾄ\SAKURA14\2013_31cases\2041206_revised\10_addZH2.e6.00_d2013-07-22_233301jst-2013-07-22_241101jst.png"/>
          <p:cNvPicPr/>
          <p:nvPr/>
        </p:nvPicPr>
        <p:blipFill>
          <a:blip r:embed="rId4"/>
          <a:srcRect l="2717" t="21549" r="3102" b="0"/>
          <a:stretch/>
        </p:blipFill>
        <p:spPr>
          <a:xfrm>
            <a:off x="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78" name="テキスト ボックス 9"/>
          <p:cNvSpPr/>
          <p:nvPr/>
        </p:nvSpPr>
        <p:spPr>
          <a:xfrm>
            <a:off x="686880" y="4351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13"/>
          <p:cNvSpPr/>
          <p:nvPr/>
        </p:nvSpPr>
        <p:spPr>
          <a:xfrm>
            <a:off x="515160" y="353700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0 (2013/07/22 23:33 JST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33-241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C:\Users\maki\Dropbox\マイドキュメント\Maki研究ﾉｰﾄ\SAKURA14\2013_31cases\2041206_revised\11_addZH2.e5.98_d2013-08-09_124902jst-2013-08-09_134902jst.png"/>
          <p:cNvPicPr/>
          <p:nvPr/>
        </p:nvPicPr>
        <p:blipFill>
          <a:blip r:embed="rId5"/>
          <a:srcRect l="2717" t="21549" r="2866" b="0"/>
          <a:stretch/>
        </p:blipFill>
        <p:spPr>
          <a:xfrm>
            <a:off x="3056040" y="3851280"/>
            <a:ext cx="3020760" cy="301320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8"/>
          <p:cNvSpPr/>
          <p:nvPr/>
        </p:nvSpPr>
        <p:spPr>
          <a:xfrm>
            <a:off x="3766680" y="43639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3"/>
          <p:cNvSpPr/>
          <p:nvPr/>
        </p:nvSpPr>
        <p:spPr>
          <a:xfrm>
            <a:off x="3594600" y="354960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1 (2013/08/09/12:50 JST) 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9-134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Users\maki\Dropbox\マイドキュメント\Maki研究ﾉｰﾄ\SAKURA14\2013_31cases\2041206_revised\12_addZH2.e6.00_d2013-08-18_163101jst-2013-08-18_171301jst.png"/>
          <p:cNvPicPr/>
          <p:nvPr/>
        </p:nvPicPr>
        <p:blipFill>
          <a:blip r:embed="rId6"/>
          <a:srcRect l="2945" t="21549" r="3102" b="0"/>
          <a:stretch/>
        </p:blipFill>
        <p:spPr>
          <a:xfrm>
            <a:off x="6124680" y="3851280"/>
            <a:ext cx="3006720" cy="3013200"/>
          </a:xfrm>
          <a:prstGeom prst="rect">
            <a:avLst/>
          </a:prstGeom>
          <a:ln w="0">
            <a:noFill/>
          </a:ln>
        </p:spPr>
      </p:pic>
      <p:sp>
        <p:nvSpPr>
          <p:cNvPr id="84" name="テキスト ボックス 9"/>
          <p:cNvSpPr/>
          <p:nvPr/>
        </p:nvSpPr>
        <p:spPr>
          <a:xfrm>
            <a:off x="6967080" y="430380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"/>
          <p:cNvSpPr/>
          <p:nvPr/>
        </p:nvSpPr>
        <p:spPr>
          <a:xfrm>
            <a:off x="6795000" y="354960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2 (2013/08/18/16:31 JST) 5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1-171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Users\maki\Dropbox\マイドキュメント\Maki研究ﾉｰﾄ\SAKURA14\2013_31cases\2041206_revised\13_addZH2.e5.98_d2013-08-21_100502jst-2013-08-21_103301jst.png"/>
          <p:cNvPicPr/>
          <p:nvPr/>
        </p:nvPicPr>
        <p:blipFill>
          <a:blip r:embed="rId1"/>
          <a:srcRect l="2945" t="21549" r="2866" b="0"/>
          <a:stretch/>
        </p:blipFill>
        <p:spPr>
          <a:xfrm>
            <a:off x="0" y="351000"/>
            <a:ext cx="3014640" cy="301284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7"/>
          <p:cNvSpPr/>
          <p:nvPr/>
        </p:nvSpPr>
        <p:spPr>
          <a:xfrm>
            <a:off x="1756800" y="74304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3"/>
          <p:cNvSpPr/>
          <p:nvPr/>
        </p:nvSpPr>
        <p:spPr>
          <a:xfrm>
            <a:off x="646560" y="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3 (2013/08/21/10:06 JST) 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5-103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C:\Users\maki\Dropbox\マイドキュメント\Maki研究ﾉｰﾄ\SAKURA14\2013_31cases\2041206_revised\14_addZH2.e5.98_d2013-08-29_092502jst-2013-08-29_095902jst.png"/>
          <p:cNvPicPr/>
          <p:nvPr/>
        </p:nvPicPr>
        <p:blipFill>
          <a:blip r:embed="rId2"/>
          <a:srcRect l="2717" t="21549" r="2866" b="0"/>
          <a:stretch/>
        </p:blipFill>
        <p:spPr>
          <a:xfrm>
            <a:off x="3081240" y="338040"/>
            <a:ext cx="3021120" cy="3013200"/>
          </a:xfrm>
          <a:prstGeom prst="rect">
            <a:avLst/>
          </a:prstGeom>
          <a:ln w="0">
            <a:noFill/>
          </a:ln>
        </p:spPr>
      </p:pic>
      <p:sp>
        <p:nvSpPr>
          <p:cNvPr id="90" name="テキスト ボックス 7"/>
          <p:cNvSpPr/>
          <p:nvPr/>
        </p:nvSpPr>
        <p:spPr>
          <a:xfrm>
            <a:off x="375444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3"/>
          <p:cNvSpPr/>
          <p:nvPr/>
        </p:nvSpPr>
        <p:spPr>
          <a:xfrm>
            <a:off x="3582000" y="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4 (2013/08/29/09:27 JST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925-095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C:\Users\maki\Dropbox\マイドキュメント\Maki研究ﾉｰﾄ\SAKURA14\2013_31cases\2041206_revised\15_addZH2.e6.00_d2013-09-06_162301jst-2013-09-06_165101jst.png"/>
          <p:cNvPicPr/>
          <p:nvPr/>
        </p:nvPicPr>
        <p:blipFill>
          <a:blip r:embed="rId3"/>
          <a:srcRect l="2717" t="21549" r="3102" b="0"/>
          <a:stretch/>
        </p:blipFill>
        <p:spPr>
          <a:xfrm>
            <a:off x="6111720" y="33804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93" name="テキスト ボックス 3"/>
          <p:cNvSpPr/>
          <p:nvPr/>
        </p:nvSpPr>
        <p:spPr>
          <a:xfrm>
            <a:off x="6734880" y="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5 (2013/09/06/16:23 JST) 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23-165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7"/>
          <p:cNvSpPr/>
          <p:nvPr/>
        </p:nvSpPr>
        <p:spPr>
          <a:xfrm>
            <a:off x="661788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C:\Users\maki\Dropbox\マイドキュメント\Maki研究ﾉｰﾄ\SAKURA14\2013_31cases\2041206_revised\16_addZH2.e6.00_d2013-09-06_204301jst-2013-09-06_211101jst.png"/>
          <p:cNvPicPr/>
          <p:nvPr/>
        </p:nvPicPr>
        <p:blipFill>
          <a:blip r:embed="rId4"/>
          <a:srcRect l="2945" t="21549" r="2866" b="0"/>
          <a:stretch/>
        </p:blipFill>
        <p:spPr>
          <a:xfrm>
            <a:off x="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3"/>
          <p:cNvSpPr/>
          <p:nvPr/>
        </p:nvSpPr>
        <p:spPr>
          <a:xfrm>
            <a:off x="562320" y="3537000"/>
            <a:ext cx="225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6 (2013/09/06/20:44 JST) 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3-211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7"/>
          <p:cNvSpPr/>
          <p:nvPr/>
        </p:nvSpPr>
        <p:spPr>
          <a:xfrm>
            <a:off x="385200" y="4351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C:\Users\maki\Dropbox\マイドキュメント\Maki研究ﾉｰﾄ\SAKURA14\2013_31cases\2041206_revised\17_addZH2.e6.00_d2013-09-12_132701jst-2013-09-12_135902jst.png"/>
          <p:cNvPicPr/>
          <p:nvPr/>
        </p:nvPicPr>
        <p:blipFill>
          <a:blip r:embed="rId5"/>
          <a:srcRect l="2945" t="21549" r="3102" b="0"/>
          <a:stretch/>
        </p:blipFill>
        <p:spPr>
          <a:xfrm>
            <a:off x="3079800" y="3851280"/>
            <a:ext cx="3006720" cy="3013200"/>
          </a:xfrm>
          <a:prstGeom prst="rect">
            <a:avLst/>
          </a:prstGeom>
          <a:ln w="0">
            <a:noFill/>
          </a:ln>
        </p:spPr>
      </p:pic>
      <p:sp>
        <p:nvSpPr>
          <p:cNvPr id="99" name="テキスト ボックス 1"/>
          <p:cNvSpPr/>
          <p:nvPr/>
        </p:nvSpPr>
        <p:spPr>
          <a:xfrm>
            <a:off x="3693240" y="618480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断続的噴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3"/>
          <p:cNvSpPr/>
          <p:nvPr/>
        </p:nvSpPr>
        <p:spPr>
          <a:xfrm>
            <a:off x="3618360" y="353700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7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 (2013/09/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12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/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13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: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26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 JST) 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27-135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9"/>
          <p:cNvSpPr/>
          <p:nvPr/>
        </p:nvSpPr>
        <p:spPr>
          <a:xfrm>
            <a:off x="3538080" y="43275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C:\Users\maki\Dropbox\マイドキュメント\Maki研究ﾉｰﾄ\SAKURA14\2013_31cases\2041206_revised\18_addZH2.e5.98_d2013-09-13_072902jst-2013-09-13_075902jst.png"/>
          <p:cNvPicPr/>
          <p:nvPr/>
        </p:nvPicPr>
        <p:blipFill>
          <a:blip r:embed="rId6"/>
          <a:srcRect l="2945" t="21549" r="2866" b="0"/>
          <a:stretch/>
        </p:blipFill>
        <p:spPr>
          <a:xfrm>
            <a:off x="612468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03" name="テキスト ボックス 7"/>
          <p:cNvSpPr/>
          <p:nvPr/>
        </p:nvSpPr>
        <p:spPr>
          <a:xfrm>
            <a:off x="6906600" y="4351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"/>
          <p:cNvSpPr/>
          <p:nvPr/>
        </p:nvSpPr>
        <p:spPr>
          <a:xfrm>
            <a:off x="6734880" y="353700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8 (2013/09/13/07: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9 JST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729-075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7" descr="C:\Users\maki\Dropbox\マイドキュメント\Maki研究ﾉｰﾄ\SAKURA14\2013_31cases\2041206_revised\19_addZH2.e5.98_d2013-09-20_164502jst-2013-09-20_171902jst.png"/>
          <p:cNvPicPr/>
          <p:nvPr/>
        </p:nvPicPr>
        <p:blipFill>
          <a:blip r:embed="rId1"/>
          <a:srcRect l="2717" t="21549" r="3102" b="0"/>
          <a:stretch/>
        </p:blipFill>
        <p:spPr>
          <a:xfrm>
            <a:off x="0" y="36180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06" name="テキスト ボックス 7"/>
          <p:cNvSpPr/>
          <p:nvPr/>
        </p:nvSpPr>
        <p:spPr>
          <a:xfrm>
            <a:off x="79488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6"/>
          <p:cNvSpPr/>
          <p:nvPr/>
        </p:nvSpPr>
        <p:spPr>
          <a:xfrm>
            <a:off x="623160" y="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19 (2013/09/20 16:46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45-171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C:\Users\maki\Dropbox\マイドキュメント\Maki研究ﾉｰﾄ\SAKURA14\2013_31cases\2041206_revised\20_addZH2.e5.99_d2013-09-25_124101jst-2013-09-25_131301jst.png"/>
          <p:cNvPicPr/>
          <p:nvPr/>
        </p:nvPicPr>
        <p:blipFill>
          <a:blip r:embed="rId2"/>
          <a:srcRect l="2945" t="21549" r="3102" b="0"/>
          <a:stretch/>
        </p:blipFill>
        <p:spPr>
          <a:xfrm>
            <a:off x="3068640" y="351000"/>
            <a:ext cx="3006720" cy="3012840"/>
          </a:xfrm>
          <a:prstGeom prst="rect">
            <a:avLst/>
          </a:prstGeom>
          <a:ln w="0">
            <a:noFill/>
          </a:ln>
        </p:spPr>
      </p:pic>
      <p:sp>
        <p:nvSpPr>
          <p:cNvPr id="109" name="テキスト ボックス 7"/>
          <p:cNvSpPr/>
          <p:nvPr/>
        </p:nvSpPr>
        <p:spPr>
          <a:xfrm>
            <a:off x="376668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6"/>
          <p:cNvSpPr/>
          <p:nvPr/>
        </p:nvSpPr>
        <p:spPr>
          <a:xfrm>
            <a:off x="3593520" y="0"/>
            <a:ext cx="213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0 (2013/9/25 12:42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4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1-131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C:\Users\maki\Dropbox\マイドキュメント\Maki研究ﾉｰﾄ\SAKURA14\2013_31cases\2041206_revised\21_addZH2.e6.00_d2013-09-26_101701jst-2013-09-26_105502jst.png"/>
          <p:cNvPicPr/>
          <p:nvPr/>
        </p:nvPicPr>
        <p:blipFill>
          <a:blip r:embed="rId3"/>
          <a:srcRect l="2717" t="21549" r="3102" b="0"/>
          <a:stretch/>
        </p:blipFill>
        <p:spPr>
          <a:xfrm>
            <a:off x="6124680" y="33804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12" name="テキスト ボックス 7"/>
          <p:cNvSpPr/>
          <p:nvPr/>
        </p:nvSpPr>
        <p:spPr>
          <a:xfrm>
            <a:off x="694332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6"/>
          <p:cNvSpPr/>
          <p:nvPr/>
        </p:nvSpPr>
        <p:spPr>
          <a:xfrm>
            <a:off x="6770160" y="0"/>
            <a:ext cx="213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1 (2013/9/26 10:18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4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7-1055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0" descr="C:\Users\maki\Dropbox\マイドキュメント\Maki研究ﾉｰﾄ\SAKURA14\2013_31cases\2041206_revised\22_addZH2.e6.00_d2013-09-27_172301jst-2013-09-27_180902jst.png"/>
          <p:cNvPicPr/>
          <p:nvPr/>
        </p:nvPicPr>
        <p:blipFill>
          <a:blip r:embed="rId4"/>
          <a:srcRect l="2717" t="21549" r="3102" b="0"/>
          <a:stretch/>
        </p:blipFill>
        <p:spPr>
          <a:xfrm>
            <a:off x="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15" name="テキスト ボックス 9"/>
          <p:cNvSpPr/>
          <p:nvPr/>
        </p:nvSpPr>
        <p:spPr>
          <a:xfrm>
            <a:off x="758160" y="43401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6"/>
          <p:cNvSpPr/>
          <p:nvPr/>
        </p:nvSpPr>
        <p:spPr>
          <a:xfrm>
            <a:off x="586800" y="352584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2 (2013/09/27 17:24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23-1809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1" descr="C:\Users\maki\Dropbox\マイドキュメント\Maki研究ﾉｰﾄ\SAKURA14\2013_31cases\2041206_revised\23_addZH2.e5.98_d2013-10-01_133902jst-2013-10-01_141701jst.png"/>
          <p:cNvPicPr/>
          <p:nvPr/>
        </p:nvPicPr>
        <p:blipFill>
          <a:blip r:embed="rId5"/>
          <a:srcRect l="2717" t="21549" r="3102" b="0"/>
          <a:stretch/>
        </p:blipFill>
        <p:spPr>
          <a:xfrm>
            <a:off x="305604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18" name="テキスト ボックス 6"/>
          <p:cNvSpPr/>
          <p:nvPr/>
        </p:nvSpPr>
        <p:spPr>
          <a:xfrm>
            <a:off x="3618720" y="352584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3 (2013/10/01 13:38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39-1417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7"/>
          <p:cNvSpPr/>
          <p:nvPr/>
        </p:nvSpPr>
        <p:spPr>
          <a:xfrm>
            <a:off x="3790440" y="43401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2" descr="C:\Users\maki\Dropbox\マイドキュメント\Maki研究ﾉｰﾄ\SAKURA14\2013_31cases\2041206_revised\24_addZH2.e5.98_d2013-10-03_082902jst-2013-10-03_090502jst.png"/>
          <p:cNvPicPr/>
          <p:nvPr/>
        </p:nvPicPr>
        <p:blipFill>
          <a:blip r:embed="rId6"/>
          <a:srcRect l="2717" t="21549" r="2866" b="0"/>
          <a:stretch/>
        </p:blipFill>
        <p:spPr>
          <a:xfrm>
            <a:off x="6111720" y="3851280"/>
            <a:ext cx="3021120" cy="301320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8"/>
          <p:cNvSpPr/>
          <p:nvPr/>
        </p:nvSpPr>
        <p:spPr>
          <a:xfrm>
            <a:off x="6943320" y="43401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"/>
          <p:cNvSpPr/>
          <p:nvPr/>
        </p:nvSpPr>
        <p:spPr>
          <a:xfrm>
            <a:off x="6771600" y="352584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4 (2013/10/03 08:30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829-0905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5" descr="C:\Users\maki\Dropbox\マイドキュメント\Maki研究ﾉｰﾄ\SAKURA14\2013_31cases\2041206_revised\27_addZH2.e6.00_d2013-10-04_041701jst-2013-10-04_054502jst.png"/>
          <p:cNvPicPr/>
          <p:nvPr/>
        </p:nvPicPr>
        <p:blipFill>
          <a:blip r:embed="rId1"/>
          <a:srcRect l="2717" t="21549" r="2866" b="0"/>
          <a:stretch/>
        </p:blipFill>
        <p:spPr>
          <a:xfrm>
            <a:off x="0" y="361800"/>
            <a:ext cx="3021120" cy="3013200"/>
          </a:xfrm>
          <a:prstGeom prst="rect">
            <a:avLst/>
          </a:prstGeom>
          <a:ln w="0">
            <a:noFill/>
          </a:ln>
        </p:spPr>
      </p:pic>
      <p:sp>
        <p:nvSpPr>
          <p:cNvPr id="124" name="テキスト ボックス 9"/>
          <p:cNvSpPr/>
          <p:nvPr/>
        </p:nvSpPr>
        <p:spPr>
          <a:xfrm>
            <a:off x="89172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6"/>
          <p:cNvSpPr/>
          <p:nvPr/>
        </p:nvSpPr>
        <p:spPr>
          <a:xfrm>
            <a:off x="720000" y="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5 (2013/10/04 04:33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417-0545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6" descr="C:\Users\maki\Dropbox\マイドキュメント\Maki研究ﾉｰﾄ\SAKURA14\2013_31cases\2041206_revised\28_addZH2.e6.00_d2013-10-04_120101jst-2013-10-04_123701jst.png"/>
          <p:cNvPicPr/>
          <p:nvPr/>
        </p:nvPicPr>
        <p:blipFill>
          <a:blip r:embed="rId2"/>
          <a:srcRect l="2945" t="21549" r="2866" b="0"/>
          <a:stretch/>
        </p:blipFill>
        <p:spPr>
          <a:xfrm>
            <a:off x="3068640" y="36180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27" name="テキスト ボックス 8"/>
          <p:cNvSpPr/>
          <p:nvPr/>
        </p:nvSpPr>
        <p:spPr>
          <a:xfrm>
            <a:off x="380304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6"/>
          <p:cNvSpPr/>
          <p:nvPr/>
        </p:nvSpPr>
        <p:spPr>
          <a:xfrm>
            <a:off x="3631320" y="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6 (2013/10/04 12:02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1-1237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7" descr="C:\Users\maki\Dropbox\マイドキュメント\Maki研究ﾉｰﾄ\SAKURA14\2013_31cases\2041206_revised\29_addZH2.e6.00_d2013-10-07_092101jst-2013-10-07_094101jst.png"/>
          <p:cNvPicPr/>
          <p:nvPr/>
        </p:nvPicPr>
        <p:blipFill>
          <a:blip r:embed="rId3"/>
          <a:srcRect l="2717" t="21549" r="3102" b="0"/>
          <a:stretch/>
        </p:blipFill>
        <p:spPr>
          <a:xfrm>
            <a:off x="6100920" y="351000"/>
            <a:ext cx="3014640" cy="3012840"/>
          </a:xfrm>
          <a:prstGeom prst="rect">
            <a:avLst/>
          </a:prstGeom>
          <a:ln w="0">
            <a:noFill/>
          </a:ln>
        </p:spPr>
      </p:pic>
      <p:sp>
        <p:nvSpPr>
          <p:cNvPr id="130" name="テキスト ボックス 7"/>
          <p:cNvSpPr/>
          <p:nvPr/>
        </p:nvSpPr>
        <p:spPr>
          <a:xfrm>
            <a:off x="699084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6"/>
          <p:cNvSpPr/>
          <p:nvPr/>
        </p:nvSpPr>
        <p:spPr>
          <a:xfrm>
            <a:off x="6819120" y="0"/>
            <a:ext cx="220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7 (2013/10/07 09:22</a:t>
            </a:r>
            <a:r>
              <a:rPr b="1" lang="ja-JP" sz="1000" spc="-1" strike="noStrike">
                <a:solidFill>
                  <a:srgbClr val="0066cc"/>
                </a:solidFill>
                <a:latin typeface="Calibri"/>
              </a:rPr>
              <a:t> JST</a:t>
            </a: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) 3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921-094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3" descr="C:\Users\maki\Dropbox\マイドキュメント\Maki研究ﾉｰﾄ\SAKURA14\2013_31cases\2041206_revised\25_addZH2.e5.98_d2013-10-21_103502jst-2013-10-21_112502jst.png"/>
          <p:cNvPicPr/>
          <p:nvPr/>
        </p:nvPicPr>
        <p:blipFill>
          <a:blip r:embed="rId4"/>
          <a:srcRect l="2945" t="21549" r="3102" b="0"/>
          <a:stretch/>
        </p:blipFill>
        <p:spPr>
          <a:xfrm>
            <a:off x="0" y="3851280"/>
            <a:ext cx="3006720" cy="3013200"/>
          </a:xfrm>
          <a:prstGeom prst="rect">
            <a:avLst/>
          </a:prstGeom>
          <a:ln w="0">
            <a:noFill/>
          </a:ln>
        </p:spPr>
      </p:pic>
      <p:sp>
        <p:nvSpPr>
          <p:cNvPr id="133" name="テキスト ボックス 9"/>
          <p:cNvSpPr/>
          <p:nvPr/>
        </p:nvSpPr>
        <p:spPr>
          <a:xfrm>
            <a:off x="866880" y="4351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3"/>
          <p:cNvSpPr/>
          <p:nvPr/>
        </p:nvSpPr>
        <p:spPr>
          <a:xfrm>
            <a:off x="694440" y="353700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8 (2013/10/21/10:35 JST) 4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5-1125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4" descr="C:\Users\maki\Dropbox\マイドキュメント\Maki研究ﾉｰﾄ\SAKURA14\2013_31cases\2041206_revised\26_addZH2.e5.98_d2013-10-28_080902jst-2013-10-28_085101jst.png"/>
          <p:cNvPicPr/>
          <p:nvPr/>
        </p:nvPicPr>
        <p:blipFill>
          <a:blip r:embed="rId5"/>
          <a:srcRect l="2945" t="21549" r="3102" b="0"/>
          <a:stretch/>
        </p:blipFill>
        <p:spPr>
          <a:xfrm>
            <a:off x="3079800" y="3851280"/>
            <a:ext cx="3006720" cy="3013200"/>
          </a:xfrm>
          <a:prstGeom prst="rect">
            <a:avLst/>
          </a:prstGeom>
          <a:ln w="0">
            <a:noFill/>
          </a:ln>
        </p:spPr>
      </p:pic>
      <p:sp>
        <p:nvSpPr>
          <p:cNvPr id="136" name="テキスト ボックス 9"/>
          <p:cNvSpPr/>
          <p:nvPr/>
        </p:nvSpPr>
        <p:spPr>
          <a:xfrm>
            <a:off x="3790440" y="43401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3"/>
          <p:cNvSpPr/>
          <p:nvPr/>
        </p:nvSpPr>
        <p:spPr>
          <a:xfrm>
            <a:off x="3618360" y="352584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29 (2013/10/28/08:09 JST) 35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809-085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8" descr="C:\Users\maki\Dropbox\マイドキュメント\Maki研究ﾉｰﾄ\SAKURA14\2013_31cases\2041206_revised\30_addZH2.e6.00_d2013-10-28_123701jst-2013-10-28_131301jst.png"/>
          <p:cNvPicPr/>
          <p:nvPr/>
        </p:nvPicPr>
        <p:blipFill>
          <a:blip r:embed="rId6"/>
          <a:srcRect l="2945" t="21549" r="2866" b="0"/>
          <a:stretch/>
        </p:blipFill>
        <p:spPr>
          <a:xfrm>
            <a:off x="6111720" y="3851280"/>
            <a:ext cx="3014640" cy="3013200"/>
          </a:xfrm>
          <a:prstGeom prst="rect">
            <a:avLst/>
          </a:prstGeom>
          <a:ln w="0">
            <a:noFill/>
          </a:ln>
        </p:spPr>
      </p:pic>
      <p:sp>
        <p:nvSpPr>
          <p:cNvPr id="139" name="テキスト ボックス 3"/>
          <p:cNvSpPr/>
          <p:nvPr/>
        </p:nvSpPr>
        <p:spPr>
          <a:xfrm>
            <a:off x="6807960" y="352584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30 (2013/10/28/12:39 JST) 32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7-1313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7"/>
          <p:cNvSpPr/>
          <p:nvPr/>
        </p:nvSpPr>
        <p:spPr>
          <a:xfrm>
            <a:off x="6979680" y="434016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9" descr="C:\Users\maki\Dropbox\マイドキュメント\Maki研究ﾉｰﾄ\SAKURA14\2013_31cases\2041206_revised\31_addZH2.e6.00_d2013-11-24_162301jst-2013-11-24_165101jst.png"/>
          <p:cNvPicPr/>
          <p:nvPr/>
        </p:nvPicPr>
        <p:blipFill>
          <a:blip r:embed="rId1"/>
          <a:srcRect l="2945" t="21352" r="2866" b="0"/>
          <a:stretch/>
        </p:blipFill>
        <p:spPr>
          <a:xfrm>
            <a:off x="0" y="374760"/>
            <a:ext cx="3014640" cy="3020760"/>
          </a:xfrm>
          <a:prstGeom prst="rect">
            <a:avLst/>
          </a:prstGeom>
          <a:ln w="0">
            <a:noFill/>
          </a:ln>
        </p:spPr>
      </p:pic>
      <p:sp>
        <p:nvSpPr>
          <p:cNvPr id="142" name="テキスト ボックス 9"/>
          <p:cNvSpPr/>
          <p:nvPr/>
        </p:nvSpPr>
        <p:spPr>
          <a:xfrm>
            <a:off x="891720" y="814320"/>
            <a:ext cx="97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噴煙高度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3"/>
          <p:cNvSpPr/>
          <p:nvPr/>
        </p:nvSpPr>
        <p:spPr>
          <a:xfrm>
            <a:off x="719640" y="0"/>
            <a:ext cx="222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cc"/>
                </a:solidFill>
                <a:latin typeface="Calibri"/>
              </a:rPr>
              <a:t>CASE31 (2013/11/24/16:23 JST) 4000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エコー積算期間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23-1651 J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2:06Z</dcterms:created>
  <dc:creator>M.MAKI</dc:creator>
  <dc:description/>
  <dc:language>en-US</dc:language>
  <cp:lastModifiedBy>maki</cp:lastModifiedBy>
  <dcterms:modified xsi:type="dcterms:W3CDTF">2015-06-16T01:32:01Z</dcterms:modified>
  <cp:revision>244</cp:revision>
  <dc:subject/>
  <dc:title>垂水XMPレーダにより観測された桜島噴火時のレーダ画像（2013年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1-9.1.0.4586</vt:lpwstr>
  </property>
</Properties>
</file>